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735-EF9E-45B5-B5E2-88D19155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A0B-F576-4BBA-AA86-DE767687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166-2DC4-4B9A-BCB8-405ADE75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985-4A07-4030-BCD2-2E7A6FC0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FFC-0A95-4872-8DB0-BCC0D470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D02-7D3B-4EB3-BA9D-BEDC5BC9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46A-C8E8-4C03-83B6-9EAA60B1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BF1-459A-4459-8E17-A6A9D162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52E-BB7B-45F6-84B2-8646DB35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62A-13BB-413A-ACA3-1E909873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D2B-3446-4E5A-9FE9-DE1D6F09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705-4D79-468D-9270-0F5F9B3C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6E4AE6-CEB4-4676-9941-92A970AE009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16.1.jpg"/>
          <p:cNvPicPr/>
          <p:nvPr/>
        </p:nvPicPr>
        <p:blipFill>
          <a:blip r:embed="rId1"/>
          <a:stretch/>
        </p:blipFill>
        <p:spPr>
          <a:xfrm>
            <a:off x="1185840" y="0"/>
            <a:ext cx="67701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Table 16.1.jpg"/>
          <p:cNvPicPr/>
          <p:nvPr/>
        </p:nvPicPr>
        <p:blipFill>
          <a:blip r:embed="rId1"/>
          <a:stretch/>
        </p:blipFill>
        <p:spPr>
          <a:xfrm>
            <a:off x="650880" y="0"/>
            <a:ext cx="7840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44:56Z</dcterms:created>
  <dc:creator>Administrator</dc:creator>
  <dc:description/>
  <dc:language>en-US</dc:language>
  <cp:lastModifiedBy>Administrator</cp:lastModifiedBy>
  <dcterms:modified xsi:type="dcterms:W3CDTF">2012-04-04T09:45:04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</vt:r8>
  </property>
</Properties>
</file>